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wmf" ContentType="image/x-wmf"/>
  <Override PartName="/ppt/media/image9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71680" y="509760"/>
            <a:ext cx="33991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move the slide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22280" y="3228840"/>
            <a:ext cx="739296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562752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6530B9-9AEA-4728-ACCD-467BDF0E8E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62752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3714D7-7EF6-4BE6-9B4C-C480BCCB6F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322280" y="3228840"/>
            <a:ext cx="73929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78720" y="3240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AFC-DAB3-49FC-866C-3C7D82D4F1EC}" type="slidenum">
              <a:rPr b="1" i="1" lang="de-DE" sz="3000" spc="-1" strike="noStrike">
                <a:solidFill>
                  <a:srgbClr val="899bf3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800600" y="4572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lum bright="18000"/>
          </a:blip>
          <a:srcRect l="0" t="2241" r="0" b="47485"/>
          <a:stretch/>
        </p:blipFill>
        <p:spPr>
          <a:xfrm>
            <a:off x="0" y="1590840"/>
            <a:ext cx="9144000" cy="5038560"/>
          </a:xfrm>
          <a:prstGeom prst="rect">
            <a:avLst/>
          </a:prstGeom>
          <a:ln w="0">
            <a:noFill/>
          </a:ln>
        </p:spPr>
      </p:pic>
      <p:pic>
        <p:nvPicPr>
          <p:cNvPr id="5" name="DIL-LogoClaim_neg_RGB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2075040" cy="646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ct val="120000"/>
              </a:lnSpc>
              <a:spcBef>
                <a:spcPts val="157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188640">
              <a:spcBef>
                <a:spcPts val="400"/>
              </a:spcBef>
              <a:buClr>
                <a:srgbClr val="736be1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305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6496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0686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625760"/>
            <a:ext cx="9144000" cy="347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826160"/>
            <a:ext cx="9144000" cy="36036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1f79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705360" y="48132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800" spc="-1" strike="noStrike">
                <a:solidFill>
                  <a:srgbClr val="0d1f7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L-LogoClaim_neg_RGB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2075040" cy="64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188640" algn="ctr">
              <a:spcBef>
                <a:spcPts val="400"/>
              </a:spcBef>
              <a:buClr>
                <a:srgbClr val="736be1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08756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0494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1124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01124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01124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8006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auptversamml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800600"/>
            <a:ext cx="487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16. Juni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4382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8dffc"/>
                </a:solidFill>
                <a:latin typeface="Arial"/>
              </a:rPr>
              <a:t>Wir begrüßen Sie zu unserer Hauptversammlung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Finanzverschuldung wieder rückläufi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verschuldung nach dem akquisitionsbedingten Anstieg in 2007 wieder rückläu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 liegt per Ende 2008 mit 96,7 Mio. € um 13,4 Mio. € über Vorjahresniveau (83,3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 je Aktie liegt bei 2,19 € je Aktie (Vorjahr 1,86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steigt bei unveränderter Bilanzsumme von 35,1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40,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Eigenkapitalausstattung komfortabel im Zielkorr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Aktienrückkaufprogramm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612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wischen dem 1.10. und dem 31.12.2008 wurden insgesamt 513.917 eigene Aktien zu einem Durchschnittskurs von 1,0327 € zurückgekauf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m ersten Quartal 2009 wurden 382.154 eigene Aktien zu einem Durchschnittskurs von 1,0185 € zurückgekauf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612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gesamt wurden damit 896.071 Aktien erworben (2,0 % des Grundkapitals); die zurückgekauften Aktien wurden mit der Folge der Herabsetzung des Grundkapitals eingezo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65752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5752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Gezeichnetes Kapital um 2 % reduz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Umsatzentwicklung in Q1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Erstes Quarta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9800" y="2666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lösniveau um 11,3 % unter Vor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“ hat sich weitgehend behauptet (Erlöse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3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5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umgüterverpackung“ minus 18,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USA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,9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; Italien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,8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; Belgien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14,2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gerlogistik“ minus 19,3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deutlich niedrigere Luftfrachtvolumen führten im Flughafengeschäft zu Rückgängen um mehr als ein Dr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Spürbare Auswirkungen der Wirtschaftk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2680" y="2666880"/>
          <a:ext cx="371160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666880"/>
                    <a:ext cx="37116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6324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inkl. 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entwicklung in Q1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Erstes Quarta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666880"/>
            <a:ext cx="426708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 2,6 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j.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,5) Mio. €; Konsumgüterverpackung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2 (Vj.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8) Mio. €; Lagerlogistik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5 (Vj. 1,8 inkl. Buchgewinn i.H.v. 0,9) Mio. €; Holding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2 (Vj. 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5) Mio.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gewinn 0,1 (Vj. 1,2) Mio.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-Finanzverschuldung beträg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9,8 nach 49,0 Mio. € am Jahres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weiter über 40 %  (40,2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nach 40,8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m Jahresen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Trotz Wirtschaftskrise weiter profit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Planung 2009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Planung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8200" y="1980720"/>
            <a:ext cx="8570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wartete Umsatzerlöse 2009: &gt; 305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-EBITA (Konzern) 2009: &gt; 10,0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artetes Investitionsvolumen: ca. 6,0 Mio.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artete Finanzlage: keine wesentlichen Finanzierungsmaßnahmen für den laufenden Geschäftsbetrieb notwe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4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ür 2010 wieder organisches Umsatzwachstum und steigende Erträge erwar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Geplante Ausrichtung des Konzerns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Strategie / Ausb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scher Fokus liegt auf der Verpackung und begleitenden Industriedienst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iterer Ausbau der Marktführerschaft in Deutsch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ansion in weitere europäische Märkte und Übersee unter Ausnutzung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 einzigartigen Know-hows mit bestehenden und neuen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bau der Konsumgüterverpa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sbau und Verstärkung der Kundenbezieh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now-how-Transfer der „Total Packaging Solution“ von den USA nach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5000"/>
              </a:lnSpc>
              <a:spcBef>
                <a:spcPts val="624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novation – Value Added – Intelligente Verpackung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Mittelfristige finanzielle Ziele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6640" y="1980720"/>
            <a:ext cx="870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tiges profitables Umsatzwachstum,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wohl organisch als auch durch Akquisi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haltige operative Marge (EBITA-Marge) von über 4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(2008: 4,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besserung des Finanzergebnisses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erung des Steueraufw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igenkapitalquote nachhaltig deutlich über 30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(Stand 31.12.2008: 40,8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Strategie / Ausb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8006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auptversamml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800600"/>
            <a:ext cx="487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16. Juni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2222640"/>
          <a:ext cx="7772400" cy="3644640"/>
        </p:xfrm>
        <a:graphic>
          <a:graphicData uri="http://schemas.openxmlformats.org/drawingml/2006/table">
            <a:tbl>
              <a:tblPr/>
              <a:tblGrid>
                <a:gridCol w="874800"/>
                <a:gridCol w="689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35000"/>
                        </a:lnSpc>
                        <a:spcBef>
                          <a:spcPts val="1250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abschluss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899bf3"/>
                      </a:solidFill>
                    </a:lnT>
                    <a:lnB>
                      <a:noFill/>
                    </a:lnB>
                    <a:solidFill>
                      <a:srgbClr val="c5cef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tes Quartal 2009, Planu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indent="291960">
                        <a:lnSpc>
                          <a:spcPct val="12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Font typeface="Wingdings" charset="2"/>
                        <a:buChar char=""/>
                        <a:tabLst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e, Ausb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9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99bf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Highlights 2008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9360" y="1981080"/>
            <a:ext cx="848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msatz konstant bei 336,8 Mio. € (Vorjahr 337,7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188640">
              <a:lnSpc>
                <a:spcPct val="130000"/>
              </a:lnSpc>
              <a:spcBef>
                <a:spcPts val="876"/>
              </a:spcBef>
              <a:buClr>
                <a:srgbClr val="736be1"/>
              </a:buClr>
              <a:buFont typeface="Wingdings" charset="2"/>
              <a:buChar char="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ches Wachstum – 3,9</a:t>
            </a:r>
            <a:r>
              <a:rPr b="1" lang="de-DE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%, zusätzlich währungsbereinigt – 2,7</a:t>
            </a:r>
            <a:r>
              <a:rPr b="1" lang="de-DE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ves Ergebnis (EBITA) legt um 19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14,6 Mio. € 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uerposition durch die Aktivierung latenter Steuern i.H.v. 4,6 Mio. € infolge des Ergebnisabführungsvertrags mit der Deufol Tailleur gepräg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ergebnis 11,5 Mio. € (Vorjahr 2,8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stmalige Dividende von 0,07 € je Aktie vorgesch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-Finanzverbindlichkeiten wieder rückläufig (–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,4 Mio. € auf 49,0 Mio.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ver Cashflow weiter auf hohem Niveau (15,7 Mio. € nach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,0 Mio. € in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Deutliche Wachstumsraten beim Ergebnis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Höheres Rentabilitätsni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22748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ttoergebnis um 3,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gesti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BITDA (+ 15,6 %) und EBITA (+ 18,9 %) mit zweistelligen Zuwachs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 vor Steuern (EBT) wächst  um 26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auf 9,9 Mio.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ttoergebnis erreicht 11,5 Mio. € nach 2,8 Mio.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 je Aktie 0,26 € (Vj. 0,07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msatz gehalten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9800" y="2666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güterverpackung“ plus 7,0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Logis Gruppe erstmalig enthalten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umsätze i.H.v. 13 Mio. € entfa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umgüterverpackung“ minus 7,1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; Rückgang gleichmäßig über die Regionen (Belgien, Italien, USA) verte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gerlogistik“ um 2,5</a:t>
            </a:r>
            <a:r>
              <a:rPr b="1" lang="de-DE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 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 rückläufig; nachlassende Volumina im Automobilbereich und bei der Luftfracht im zweiten Halb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msatz bei 336,8 Mio. € weitgehend k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2680" y="2666880"/>
          <a:ext cx="371160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666880"/>
                    <a:ext cx="37116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57200" y="6324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inkl. 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Geographische Präsenz: Schwerpunkt Europa – starkes Standbein in den USA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981080"/>
            <a:ext cx="179280" cy="1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79280" cy="179280"/>
          </a:xfrm>
          <a:prstGeom prst="rect">
            <a:avLst/>
          </a:prstGeom>
          <a:solidFill>
            <a:srgbClr val="899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514600"/>
            <a:ext cx="179280" cy="1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581280"/>
            <a:ext cx="179280" cy="179640"/>
          </a:xfrm>
          <a:prstGeom prst="rect">
            <a:avLst/>
          </a:prstGeom>
          <a:solidFill>
            <a:srgbClr val="0d1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9051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dustriegüterverpack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0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438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sumgüterverpack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9718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gerlogis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8 Stand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505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.Logistics 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934320" y="4419720"/>
          <a:ext cx="20574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419720"/>
                    <a:ext cx="20574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095880" y="4114800"/>
            <a:ext cx="221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 nach Regio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2008, Mio. 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6483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utsch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5105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Übriges Euro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57150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72200" y="4829040"/>
            <a:ext cx="1991880" cy="76320"/>
            <a:chOff x="6172200" y="4829040"/>
            <a:chExt cx="1991880" cy="76320"/>
          </a:xfrm>
        </p:grpSpPr>
        <p:sp>
          <p:nvSpPr>
            <p:cNvPr id="132" name=""/>
            <p:cNvSpPr/>
            <p:nvPr/>
          </p:nvSpPr>
          <p:spPr>
            <a:xfrm>
              <a:off x="6172200" y="4867200"/>
              <a:ext cx="198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87760" y="4829040"/>
              <a:ext cx="7632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72200" y="5295960"/>
            <a:ext cx="1295280" cy="76320"/>
            <a:chOff x="6172200" y="5295960"/>
            <a:chExt cx="1295280" cy="76320"/>
          </a:xfrm>
        </p:grpSpPr>
        <p:sp>
          <p:nvSpPr>
            <p:cNvPr id="135" name=""/>
            <p:cNvSpPr/>
            <p:nvPr/>
          </p:nvSpPr>
          <p:spPr>
            <a:xfrm>
              <a:off x="6172200" y="5334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1520" y="5295960"/>
              <a:ext cx="7596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5886360"/>
            <a:ext cx="1523880" cy="76320"/>
            <a:chOff x="6172200" y="5886360"/>
            <a:chExt cx="1523880" cy="76320"/>
          </a:xfrm>
        </p:grpSpPr>
        <p:sp>
          <p:nvSpPr>
            <p:cNvPr id="138" name=""/>
            <p:cNvSpPr/>
            <p:nvPr/>
          </p:nvSpPr>
          <p:spPr>
            <a:xfrm>
              <a:off x="6172200" y="59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0120" y="5886360"/>
              <a:ext cx="75960" cy="76320"/>
            </a:xfrm>
            <a:prstGeom prst="ellipse">
              <a:avLst/>
            </a:prstGeom>
            <a:solidFill>
              <a:srgbClr val="0d1f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2009-05-28-DIL-0595-Standortkarte" descr=""/>
          <p:cNvPicPr/>
          <p:nvPr/>
        </p:nvPicPr>
        <p:blipFill>
          <a:blip r:embed="rId3"/>
          <a:stretch/>
        </p:blipFill>
        <p:spPr>
          <a:xfrm>
            <a:off x="392040" y="1978200"/>
            <a:ext cx="5399280" cy="449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Industriegüterverpack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e Marktführerschaft weiter gefes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gis Gruppe erstmalig in den Zahlen ent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chtergesellschaft in Italien gegründet (Deufol Packaging Italy S.r.L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3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Starke Entwicklung in der Industriegüterverpac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Konsumgüterverpackung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6120" y="26665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A: Positive Effekte aus Kostensenkungen und Neugeschäft wurden von Volumenrückgänge im Kerngeschäft konterkar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e Entwicklung in Belgien, Erträge i.H.v. jährlich 1,2 Mio. € jetzt bei der Holding ausgewi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alien weiterhin profitabel, Ertrag i.H.v. 3,3 Mio. € nach Vergleich mit Vermieter im Zusammenhang mit Lagerschaden im Jah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266688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Unbefriedigende Entwicklung in den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899bf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</a:rPr>
              <a:t>Ergebniskennzahlen - Lagerlogistik</a:t>
            </a:r>
            <a:endParaRPr b="1" i="1" lang="en-US" sz="1800" spc="-1" strike="noStrike">
              <a:solidFill>
                <a:srgbClr val="0d1f7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99bf3"/>
                </a:solidFill>
                <a:latin typeface="Arial"/>
              </a:rPr>
              <a:t>Jahresabschlus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520" y="50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6120" y="26668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freuliche Entwicklung der belgischen Gesellscha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 deutschen Lagerlogistikgeschäft führten Volumenrückgänge im zweiten Halbjahr 2008 auch zu deutlich schwächeren Ergebn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2657520"/>
          <a:ext cx="37148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57520"/>
                    <a:ext cx="3714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3080" y="1828800"/>
            <a:ext cx="82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d1f79"/>
                </a:solidFill>
                <a:latin typeface="Arial"/>
                <a:ea typeface="Times New Roman"/>
              </a:rPr>
              <a:t>Belastungen infolge der Wirtschaftsk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16:58:24Z</dcterms:created>
  <dc:creator>x</dc:creator>
  <dc:description/>
  <dc:language>en-US</dc:language>
  <cp:lastModifiedBy>Rainer Monetha</cp:lastModifiedBy>
  <dcterms:modified xsi:type="dcterms:W3CDTF">2009-06-23T08:19:24Z</dcterms:modified>
  <cp:revision>258</cp:revision>
  <dc:subject/>
  <dc:title>Kein Folientitel</dc:title>
</cp:coreProperties>
</file>